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C2A3-7457-4859-846A-89D1A2A8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C23D-7993-4F02-BC7E-E6F89620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A70C-F2ED-442A-A843-2AA0DE558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7856-5FDE-4F27-866C-72F24053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F304-A7EA-4021-B011-E203B710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BAD9-CC26-4DDF-AA91-9FA35B5D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B9D2-6E4E-4BC5-A072-0B8462CD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6E9-3E8A-4907-9265-F9361B3D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D337-4369-47F0-9026-582B4984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9B75-C93E-434D-96A4-3819A454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53E1-AC6E-4141-8030-CFF97234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95DF-70D6-44D6-8159-D0629377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0598-9BF4-4739-8C88-6D22DAABC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09680" y="2286000"/>
            <a:ext cx="4496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Financial Literacy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Stock Market Project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2120" y="5257800"/>
            <a:ext cx="769608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Desmond, Thurman, Hunter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&amp; Vivian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895480" y="2590920"/>
            <a:ext cx="3353040" cy="13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ANK YOU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4724280"/>
            <a:ext cx="16956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un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981080" y="4876920"/>
            <a:ext cx="22100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urm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191120" y="4952880"/>
            <a:ext cx="23050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smo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553080" y="5181480"/>
            <a:ext cx="15433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ivi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533520"/>
            <a:ext cx="25146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Hunter Battle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1523880"/>
            <a:ext cx="6934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nter picked FedEx (FDX), because it is a stable and rapidly growing busin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est time to buy this stock is before any given holiday because there is more demand and more people are looking to ship packages to friend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45720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ring the time that I followed the stock (4/12 – 5/3) it remained consistent at around $93.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362320" cy="67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.73 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.71 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4.96 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(weeke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(weeke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.57 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6.01 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5.55 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8.29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(weeke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(weeke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(weeke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7.29 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2.59 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0.27 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.40 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.38 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(weeke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(weeke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.85 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1.92 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638680" y="380880"/>
            <a:ext cx="29718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Desmond Miller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990720"/>
            <a:ext cx="190512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5/5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5/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5/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5/2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4/29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4/28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4/27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4/26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4/25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4/21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4/20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4/19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4/18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4/15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4/1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990720"/>
            <a:ext cx="167652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46.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49.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48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46.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50.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46.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50.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50.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53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5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42.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37.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31.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27.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32.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4952880" cy="2941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5029200" y="5486400"/>
            <a:ext cx="2428920" cy="561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libri"/>
              </a:rPr>
              <a:t>Apple (AAPL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libri"/>
              <a:ea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14600" y="457200"/>
            <a:ext cx="4267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alibri"/>
              </a:rPr>
              <a:t>Why Desmond Choose Apple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alibri"/>
              <a:ea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8288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hose Apple, because I believe that the investment will continue to grow only because they produce new technology that people us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34290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purchased 7 shares at $332.26 which equaled up to $2325.8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5120" y="4191120"/>
            <a:ext cx="2143080" cy="2133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0" y="4267080"/>
            <a:ext cx="25239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380880"/>
            <a:ext cx="3233880" cy="10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Thurman Anderson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086600" cy="4208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5105520" y="380880"/>
            <a:ext cx="32763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OOGL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828800" y="533520"/>
            <a:ext cx="563400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Why Thurman choose Google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22096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hose Google because I know that they will only continue to grow because they are stable and able to make smart decisions with their busines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3809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bought 4 shares at $570.61 which equals up to $2282.4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48006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stock went down to nearly $35.17 after the first few days and  the price was never able to regain its original stat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3520" y="457200"/>
            <a:ext cx="369072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Vivian Campanell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620120" cy="4524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5029200" y="152280"/>
            <a:ext cx="30765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alibri"/>
              </a:rPr>
              <a:t>Urban Outfitter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alibri"/>
              <a:ea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057400" y="457200"/>
            <a:ext cx="5105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Why Vivian Chose URBN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66760"/>
            <a:ext cx="685800" cy="66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12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/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/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/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04920"/>
            <a:ext cx="685800" cy="66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1.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1.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0.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0.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0.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1.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1.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1.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1.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2.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3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1.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1.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1.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2.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2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1/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1676520"/>
            <a:ext cx="62485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vian chose Urban Outfitters because it is a fairly new, up and coming type place that appeals to young te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also a place that she shops and wants to sup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$32.29 per stock, I purchased 100 stocks; a total of $3,23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hough URBN has not proven to be a booming business, it has been a good learning experi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4:03:14Z</dcterms:created>
  <dc:creator>Vivian</dc:creator>
  <dc:description/>
  <dc:language>en-US</dc:language>
  <cp:lastModifiedBy>Vivian</cp:lastModifiedBy>
  <dcterms:modified xsi:type="dcterms:W3CDTF">2011-05-17T02:02:54Z</dcterms:modified>
  <cp:revision>5</cp:revision>
  <dc:subject/>
  <dc:title>PowerPoint Presentation</dc:title>
</cp:coreProperties>
</file>